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EA8-D6F4-4E0C-8C05-3A128935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BC1-D61A-4DE1-9987-999F849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122-0D9D-40DA-AE26-64DD86B4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73B-9484-4D05-8C68-8701C7D1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18EE-9FE9-4E2A-A874-C28AC838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3FCC-739D-4257-8A0A-788FE710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596E-06DD-407E-9935-CBE891C5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52E5-B15A-44A6-A932-BCAE3F18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668C-885A-49B7-BC9E-862B5AF4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082B-5519-4EE5-A3BB-01839E17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9C32-4914-424E-AE96-0717779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D19-C708-4FEC-B95F-53E4809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B34F-B3B0-416C-AB68-6EB0308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67A-C98D-41B6-BCF3-CE820AD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ABDB-ECF4-4648-9809-040F3AE2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D85F-5A12-404C-8C15-16BDC482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56DC-F4A2-4368-BAA1-B6062221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9AD-61F7-41E6-85D4-5B4D7E5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814-6A28-4C86-AC51-B2B2C49B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F48-3BAD-4DE8-B755-AFDD089D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935-9625-448B-9801-A279304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501-5872-4F49-9EA7-6F84F974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37D-1ED3-4B3E-A65F-3310C5C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20A-8A23-4C60-8E61-E11A9F43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AF95-E167-45F5-8708-8857499DCDFC}" type="slidenum">
              <a:rPr b="0" lang="pt-P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9153-0E37-41B0-81B2-5182ADB0BFC7}" type="slidenum">
              <a:rPr b="0" lang="pt-P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3416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99"/>
                </a:solidFill>
                <a:latin typeface="Arial"/>
                <a:ea typeface="Arial"/>
              </a:rPr>
              <a:t>Lifelong Learning Programme  </a:t>
            </a:r>
            <a:r>
              <a:rPr b="0" lang="pt-PT" sz="2000" spc="-1" strike="noStrike">
                <a:solidFill>
                  <a:srgbClr val="ff9900"/>
                </a:solidFill>
                <a:latin typeface="Arial"/>
                <a:ea typeface="Arial"/>
              </a:rPr>
              <a:t>- </a:t>
            </a:r>
            <a:r>
              <a:rPr b="1" lang="pt-PT" sz="20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1200"/>
            </a:br>
            <a:br>
              <a:rPr sz="22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STUDY VISIT</a:t>
            </a:r>
            <a:r>
              <a:rPr b="0" lang="pt-PT" sz="32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24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Olsztyn, Poland, 18th – 22nd October 201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28440" y="3886200"/>
            <a:ext cx="73580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Secondary School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Quinta do Marquê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CaixaDeTexto 5"/>
          <p:cNvSpPr/>
          <p:nvPr/>
        </p:nvSpPr>
        <p:spPr>
          <a:xfrm>
            <a:off x="2928960" y="49118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cc"/>
                </a:solidFill>
                <a:latin typeface="Arial"/>
              </a:rPr>
              <a:t>Escola Secundária Quinta do Marqu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m 2" descr=""/>
          <p:cNvPicPr/>
          <p:nvPr/>
        </p:nvPicPr>
        <p:blipFill>
          <a:blip r:embed="rId1"/>
          <a:stretch/>
        </p:blipFill>
        <p:spPr>
          <a:xfrm>
            <a:off x="1116000" y="4941720"/>
            <a:ext cx="1368360" cy="1420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635280" y="5559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OEIRAS -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3276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3416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99"/>
                </a:solidFill>
                <a:latin typeface="Arial"/>
                <a:ea typeface="Arial"/>
              </a:rPr>
              <a:t>Lifelong Learning Programme  </a:t>
            </a:r>
            <a:r>
              <a:rPr b="0" lang="pt-PT" sz="2000" spc="-1" strike="noStrike">
                <a:solidFill>
                  <a:srgbClr val="ff9900"/>
                </a:solidFill>
                <a:latin typeface="Arial"/>
                <a:ea typeface="Arial"/>
              </a:rPr>
              <a:t>- </a:t>
            </a:r>
            <a:r>
              <a:rPr b="1" lang="pt-PT" sz="20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1200"/>
            </a:br>
            <a:br>
              <a:rPr sz="22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STUDY VISIT</a:t>
            </a:r>
            <a:r>
              <a:rPr b="0" lang="pt-PT" sz="32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2400"/>
            </a:b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Trbovlje</a:t>
            </a: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, Slovenia, 14th – 19th February 201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28440" y="3886200"/>
            <a:ext cx="73580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Secondary School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Quinta do Marquê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CaixaDeTexto 5"/>
          <p:cNvSpPr/>
          <p:nvPr/>
        </p:nvSpPr>
        <p:spPr>
          <a:xfrm>
            <a:off x="2928960" y="49118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cc"/>
                </a:solidFill>
                <a:latin typeface="Arial"/>
              </a:rPr>
              <a:t>Escola Secundária Quinta do Marqu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m 2" descr=""/>
          <p:cNvPicPr/>
          <p:nvPr/>
        </p:nvPicPr>
        <p:blipFill>
          <a:blip r:embed="rId1"/>
          <a:stretch/>
        </p:blipFill>
        <p:spPr>
          <a:xfrm>
            <a:off x="1116000" y="4941720"/>
            <a:ext cx="1368360" cy="1420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3635280" y="5559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OEIRAS -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3276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3416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99"/>
                </a:solidFill>
                <a:latin typeface="Arial"/>
                <a:ea typeface="Arial"/>
              </a:rPr>
              <a:t>Lifelong Learning Programme  </a:t>
            </a:r>
            <a:r>
              <a:rPr b="0" lang="pt-PT" sz="2000" spc="-1" strike="noStrike">
                <a:solidFill>
                  <a:srgbClr val="ff9900"/>
                </a:solidFill>
                <a:latin typeface="Arial"/>
                <a:ea typeface="Arial"/>
              </a:rPr>
              <a:t>- </a:t>
            </a:r>
            <a:r>
              <a:rPr b="1" lang="pt-PT" sz="20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1200"/>
            </a:br>
            <a:br>
              <a:rPr sz="22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STUDY VISIT</a:t>
            </a:r>
            <a:r>
              <a:rPr b="0" lang="pt-PT" sz="32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2400"/>
            </a:b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Trondheim</a:t>
            </a: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, Norway, 14th – 18th May 201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28440" y="3886200"/>
            <a:ext cx="73580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Secondary School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Quinta do Marquê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CaixaDeTexto 5"/>
          <p:cNvSpPr/>
          <p:nvPr/>
        </p:nvSpPr>
        <p:spPr>
          <a:xfrm>
            <a:off x="2928960" y="49118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cc"/>
                </a:solidFill>
                <a:latin typeface="Arial"/>
              </a:rPr>
              <a:t>Escola Secundária Quinta do Marqu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m 2" descr=""/>
          <p:cNvPicPr/>
          <p:nvPr/>
        </p:nvPicPr>
        <p:blipFill>
          <a:blip r:embed="rId1"/>
          <a:stretch/>
        </p:blipFill>
        <p:spPr>
          <a:xfrm>
            <a:off x="1116000" y="4941720"/>
            <a:ext cx="1368360" cy="1420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635280" y="5559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OEIRAS -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3276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3416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99"/>
                </a:solidFill>
                <a:latin typeface="Arial"/>
                <a:ea typeface="Arial"/>
              </a:rPr>
              <a:t>Lifelong Learning Programme  </a:t>
            </a:r>
            <a:r>
              <a:rPr b="0" lang="pt-PT" sz="2000" spc="-1" strike="noStrike">
                <a:solidFill>
                  <a:srgbClr val="ff9900"/>
                </a:solidFill>
                <a:latin typeface="Arial"/>
                <a:ea typeface="Arial"/>
              </a:rPr>
              <a:t>- </a:t>
            </a:r>
            <a:r>
              <a:rPr b="1" lang="pt-PT" sz="20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1200"/>
            </a:br>
            <a:br>
              <a:rPr sz="22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STUDY VISIT</a:t>
            </a:r>
            <a:r>
              <a:rPr b="0" lang="pt-PT" sz="32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2400"/>
            </a:b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Tallinn</a:t>
            </a: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, Estonia, 1st – 5th October 201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28440" y="3886200"/>
            <a:ext cx="73580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Secondary School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Quinta do Marquê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aixaDeTexto 5"/>
          <p:cNvSpPr/>
          <p:nvPr/>
        </p:nvSpPr>
        <p:spPr>
          <a:xfrm>
            <a:off x="2928960" y="49118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cc"/>
                </a:solidFill>
                <a:latin typeface="Arial"/>
              </a:rPr>
              <a:t>Escola Secundária Quinta do Marqu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5280" y="5559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OEIRAS -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867280" y="3213000"/>
            <a:ext cx="3276720" cy="1051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Fátima\Desktop\Dropbox\logoESQM\Logotipo4peq.png"/>
          <p:cNvPicPr/>
          <p:nvPr/>
        </p:nvPicPr>
        <p:blipFill>
          <a:blip r:embed="rId2"/>
          <a:stretch/>
        </p:blipFill>
        <p:spPr>
          <a:xfrm>
            <a:off x="826920" y="5445000"/>
            <a:ext cx="27370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3416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99"/>
                </a:solidFill>
                <a:latin typeface="Arial"/>
                <a:ea typeface="Arial"/>
              </a:rPr>
              <a:t>Lifelong Learning Programme  </a:t>
            </a:r>
            <a:r>
              <a:rPr b="0" lang="pt-PT" sz="2000" spc="-1" strike="noStrike">
                <a:solidFill>
                  <a:srgbClr val="ff9900"/>
                </a:solidFill>
                <a:latin typeface="Arial"/>
                <a:ea typeface="Arial"/>
              </a:rPr>
              <a:t>- </a:t>
            </a:r>
            <a:r>
              <a:rPr b="1" lang="pt-PT" sz="20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1200"/>
            </a:br>
            <a:br>
              <a:rPr sz="22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STUDY VISIT</a:t>
            </a:r>
            <a:r>
              <a:rPr b="0" lang="pt-PT" sz="32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2400"/>
            </a:b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Oeiras</a:t>
            </a: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, Portugal, 11th – 15th March 201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28440" y="3886200"/>
            <a:ext cx="73580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Secondary School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Quinta do Marquê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CaixaDeTexto 5"/>
          <p:cNvSpPr/>
          <p:nvPr/>
        </p:nvSpPr>
        <p:spPr>
          <a:xfrm>
            <a:off x="2928960" y="49118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cc"/>
                </a:solidFill>
                <a:latin typeface="Arial"/>
              </a:rPr>
              <a:t>Escola Secundária Quinta do Marqu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635280" y="5559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OEIRAS -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867280" y="3213000"/>
            <a:ext cx="3276720" cy="1051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Fátima\Desktop\Dropbox\logoESQM\Logotipo4peq.png"/>
          <p:cNvPicPr/>
          <p:nvPr/>
        </p:nvPicPr>
        <p:blipFill>
          <a:blip r:embed="rId2"/>
          <a:stretch/>
        </p:blipFill>
        <p:spPr>
          <a:xfrm>
            <a:off x="684360" y="5445000"/>
            <a:ext cx="2592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3416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99"/>
                </a:solidFill>
                <a:latin typeface="Arial"/>
                <a:ea typeface="Arial"/>
              </a:rPr>
              <a:t>Lifelong Learning Programme  </a:t>
            </a:r>
            <a:r>
              <a:rPr b="0" lang="pt-PT" sz="2000" spc="-1" strike="noStrike">
                <a:solidFill>
                  <a:srgbClr val="ff9900"/>
                </a:solidFill>
                <a:latin typeface="Arial"/>
                <a:ea typeface="Arial"/>
              </a:rPr>
              <a:t>- </a:t>
            </a:r>
            <a:r>
              <a:rPr b="1" lang="pt-PT" sz="20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1200"/>
            </a:br>
            <a:br>
              <a:rPr sz="22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STUDY VISIT</a:t>
            </a:r>
            <a:r>
              <a:rPr b="0" lang="pt-PT" sz="32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2400"/>
            </a:br>
            <a:r>
              <a:rPr b="1" lang="pt-P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t-PT" sz="2800" spc="-1" strike="noStrike">
                <a:solidFill>
                  <a:srgbClr val="ff9900"/>
                </a:solidFill>
                <a:latin typeface="Arial"/>
                <a:ea typeface="Arial"/>
              </a:rPr>
              <a:t>Olsztyn, Poland, 13th – 17th May 201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3886200"/>
            <a:ext cx="73580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Secondary School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pt-PT" sz="2800" spc="-1" strike="noStrike">
                <a:solidFill>
                  <a:srgbClr val="0033cc"/>
                </a:solidFill>
                <a:latin typeface="Arial"/>
                <a:ea typeface="Arial"/>
              </a:rPr>
              <a:t>Quinta do Marquê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CaixaDeTexto 5"/>
          <p:cNvSpPr/>
          <p:nvPr/>
        </p:nvSpPr>
        <p:spPr>
          <a:xfrm>
            <a:off x="2928960" y="49118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cc"/>
                </a:solidFill>
                <a:latin typeface="Arial"/>
              </a:rPr>
              <a:t>Escola Secundária Quinta do Marqu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635280" y="5559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OEIRAS -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5867280" y="3213000"/>
            <a:ext cx="3276720" cy="105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Fátima\Desktop\Dropbox\logoESQM\Logotipo4peq.png"/>
          <p:cNvPicPr/>
          <p:nvPr/>
        </p:nvPicPr>
        <p:blipFill>
          <a:blip r:embed="rId2"/>
          <a:stretch/>
        </p:blipFill>
        <p:spPr>
          <a:xfrm>
            <a:off x="684360" y="5445000"/>
            <a:ext cx="2592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6:02:42Z</dcterms:created>
  <dc:creator>Júlia Tainha</dc:creator>
  <dc:description/>
  <dc:language>en-US</dc:language>
  <cp:lastModifiedBy>Júlia</cp:lastModifiedBy>
  <dcterms:modified xsi:type="dcterms:W3CDTF">2013-03-07T17:16:34Z</dcterms:modified>
  <cp:revision>439</cp:revision>
  <dc:subject>VisitaEstudo</dc:subject>
  <dc:title>P CEx</dc:title>
</cp:coreProperties>
</file>