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723-005A-46ED-91DA-E738F96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84C-09A8-43AB-8313-9DEA3752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39A-894A-41DA-A2AB-3AC9FF3F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957-8CD0-447E-ACBA-ED7D7D32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29AF-806B-47A4-828E-5AD8FD7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4006-E369-495F-B69F-A9B270E0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747C-E32F-4A0C-85FB-A393C04F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B43E-BFE3-406C-978C-9D16D3F5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177D-9963-4976-8E26-987E341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6D9B-D286-48EA-8385-704C76B4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80DC-6C47-4267-A44D-0C90457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00D-19B5-4B2A-8039-FE0C645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590D-0C06-4599-9E9A-6F6240E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B31E-9270-49A3-B6B5-7B754162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3743-9AFE-4896-9998-6FFEC30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5307-0E48-46C2-8B2E-E5FBB1D6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46EF-C62C-4D20-8494-66ABF49E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124-D31C-4023-BDC7-F1DA37E6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7D5-D4AD-4F4A-A2B5-8B53D2B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A33-7A05-484F-B1A2-29AED1A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E5D-0C1E-490C-97F7-49F610E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EB9-7E90-40E4-9B9D-53D8E54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785-F8C8-48B3-99A3-FAF1CD6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D61-0F3C-4A69-B3B3-E30CF8A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3A42-AACD-45A0-9A2C-D990E6B091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657-9849-4AF5-A0AA-C083794833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Grelha de referências bibliográfica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copiar e preencher, respeitando as indicações fornecida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la será a base da elaboração da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Bibliografi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7480" y="694080"/>
            <a:ext cx="57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lha de referências bibliográfica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ros e material imp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773360"/>
          <a:ext cx="8602560" cy="4047840"/>
        </p:xfrm>
        <a:graphic>
          <a:graphicData uri="http://schemas.openxmlformats.org/drawingml/2006/table">
            <a:tbl>
              <a:tblPr/>
              <a:tblGrid>
                <a:gridCol w="934920"/>
                <a:gridCol w="2089080"/>
                <a:gridCol w="2376360"/>
                <a:gridCol w="1008360"/>
                <a:gridCol w="792000"/>
                <a:gridCol w="719280"/>
                <a:gridCol w="68256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 d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ocum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me do(s) autor(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tulo da ob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º ed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9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7480" y="694080"/>
            <a:ext cx="57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lha de referências bibliográfica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diovis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1773360"/>
          <a:ext cx="8602560" cy="4047840"/>
        </p:xfrm>
        <a:graphic>
          <a:graphicData uri="http://schemas.openxmlformats.org/drawingml/2006/table">
            <a:tbl>
              <a:tblPr/>
              <a:tblGrid>
                <a:gridCol w="2160360"/>
                <a:gridCol w="2374920"/>
                <a:gridCol w="1008000"/>
                <a:gridCol w="865440"/>
                <a:gridCol w="792000"/>
                <a:gridCol w="719280"/>
                <a:gridCol w="68256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aliz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tulo da ob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or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59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7480" y="724680"/>
            <a:ext cx="570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lha de referências bibliográfica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os electrónicos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1773360"/>
          <a:ext cx="8602560" cy="4238640"/>
        </p:xfrm>
        <a:graphic>
          <a:graphicData uri="http://schemas.openxmlformats.org/drawingml/2006/table">
            <a:tbl>
              <a:tblPr/>
              <a:tblGrid>
                <a:gridCol w="2160360"/>
                <a:gridCol w="2374920"/>
                <a:gridCol w="1008000"/>
                <a:gridCol w="865440"/>
                <a:gridCol w="792000"/>
                <a:gridCol w="719280"/>
                <a:gridCol w="682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utor (quando mencionad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or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cal e data do docum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ta da consu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59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13:53Z</dcterms:created>
  <dc:creator>bibloteca</dc:creator>
  <dc:description/>
  <dc:language>en-US</dc:language>
  <cp:lastModifiedBy>bibloteca</cp:lastModifiedBy>
  <dcterms:modified xsi:type="dcterms:W3CDTF">2008-04-04T08:45:59Z</dcterms:modified>
  <cp:revision>4</cp:revision>
  <dc:subject/>
  <dc:title>Grelha de referências bibliográficas</dc:title>
</cp:coreProperties>
</file>